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179-7363-4CAB-BFC1-329AD631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F02-D5D6-44F3-AA2B-B63CC4D6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5E3-6458-49F9-9058-C6B6DD72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4F4-C4E3-4A8E-AB8B-E96B8D5A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BE0C-20C4-48C6-A3D1-3EB94CDE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091-B0CB-4AE9-A7BF-81AB7F16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FA2-2E79-491F-A6B3-D9CE52FA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027-34CF-4718-8FB7-57FD5F64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EA6-9606-48B8-8333-72605D00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6E6-B07F-4177-B29F-C14AD17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9EC-BB4C-450C-9CF0-D94CB19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05A-FDA0-4D3A-9D7C-DF55AE59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F4EC-6C62-4F16-A711-4B9B0B2B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ienceblogs.com/startswithabang/upload/2009/06/galileo_the_leaning_tower_and/parachute.JPG&amp;imgrefurl=http://scienceblogs.com/startswithabang/2009/06/galileo_the_leaning_tower_and.php&amp;usg=__Y-5u0p5U2RvKF8QlYvsx1_zovNE=&amp;h=864&amp;w=606&amp;sz=49&amp;hl=en&amp;start=4&amp;tbnid=CIWVYOD4_waDGM:&amp;tbnh=145&amp;tbnw=102&amp;prev=/images%3Fq%3Dparachute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nataka.org/images/Camp_fir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olcms.org/archives/scared.gif&amp;imgrefurl=http://www.golcms.org/archives/00000022.shtml&amp;usg=__hsIZVcwaM0f81eH7rwgi6mBVS7Y=&amp;h=260&amp;w=328&amp;sz=16&amp;hl=en&amp;start=20&amp;tbnid=MMp8wtQKBvqf-M:&amp;tbnh=94&amp;tbnw=118&amp;prev=/images%3Fq%3Dscared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avelphotoguide.com/photos/thailand/golden_dawn/thailand_golden_dawn_1.jpg&amp;imgrefurl=http://www.thailand.travelphotoguide.com/&amp;usg=__79CLayzPcVm2eKN5CzVqMup57pU=&amp;h=600&amp;w=800&amp;sz=52&amp;hl=en&amp;start=1&amp;tbnid=Uj8pUEFoG5ggnM:&amp;tbnh=107&amp;tbnw=143&amp;prev=/images%3Fq%3Ddawn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.guardian.co.uk/sys-images/Arts/Arts_/Pictures/2007/06/06/flies460.jpg&amp;imgrefurl=http://andybhumanities.blogspot.com/2009/09/lotf-4-9-21-09.html&amp;usg=__dX1YCZDHGsbSGA84wUf8cON52iM=&amp;h=300&amp;w=460&amp;sz=29&amp;hl=en&amp;start=15&amp;tbnid=r9soSJKnektufM:&amp;tbnh=83&amp;tbnw=128&amp;prev=/images%3Fq%3DLOTF%2Blittluns%26gbv%3D2%26hl%3Den%26safe%3Dactive%26sa%3D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08things.co.uk/images/82/82-lotf.jpg&amp;imgrefurl=http://108things.co.uk/82&amp;usg=__doahzytZ_-oDcFggLoq5a9cGANM=&amp;h=300&amp;w=680&amp;sz=220&amp;hl=en&amp;start=5&amp;tbnid=JRhwivmARZ7ojM:&amp;tbnh=61&amp;tbnw=139&amp;prev=/images%3Fq%3Dlotf%2Bmap%26gbv%3D2%26hl%3Den%26safe%3Dactiv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orthlite.net/ps/images/color_wheel.gif&amp;imgrefurl=http://www.northlite.net/ps/blend.htm&amp;usg=__Q6vWlTO18wWGIcgV5kQxq50aqu8=&amp;h=300&amp;w=300&amp;sz=12&amp;hl=en&amp;start=4&amp;tbnid=huB3EL8WGd9WOM:&amp;tbnh=116&amp;tbnw=116&amp;prev=/images%3Fq%3Dcolors%26gbv%3D2%26hl%3Den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0000"/>
                </a:solidFill>
                <a:latin typeface="Apple Chancery"/>
              </a:rPr>
              <a:t>CHAPTER 6:  </a:t>
            </a:r>
            <a:br>
              <a:rPr sz="4900"/>
            </a:br>
            <a:r>
              <a:rPr b="1" lang="en-US" sz="4900" spc="-1" strike="noStrike">
                <a:solidFill>
                  <a:srgbClr val="ff0000"/>
                </a:solidFill>
                <a:latin typeface="Apple Chancery"/>
              </a:rPr>
              <a:t>Beast From Ai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17960" y="1905120"/>
            <a:ext cx="3054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s 106-1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your opinion, is Ralph a good chief?  Do you think Jack could do a bette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57520" y="3510000"/>
            <a:ext cx="374328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sign came from the grown-ups, that none of the boys saw (since it was nigh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 Sam and Eric are watching the fire, who are they gossiping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886200"/>
            <a:ext cx="32767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 the sentence where Golding lets us know that Sam n Eric are fright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905280"/>
            <a:ext cx="2971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y does Ralph call an assembly so early in the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933720"/>
            <a:ext cx="33526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does Jack want to do once he hears about Sam n Eric seeing the b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36384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 treats the lilluns better, Jack or Ralph?  What is your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3914640"/>
            <a:ext cx="571500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nf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!!  How does Jack feel right now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n’t got the conch,” Ralph said. “Sit d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ck’s face went so white that the freckles showed as clear, brown flecks.  He licked his lips and remained 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s 104-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colors does William Golding mention on these pages?  How many times does he mention the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6765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5:30:02Z</dcterms:created>
  <dc:creator>BPS</dc:creator>
  <dc:description/>
  <dc:language>en-US</dc:language>
  <cp:lastModifiedBy>BPS</cp:lastModifiedBy>
  <dcterms:modified xsi:type="dcterms:W3CDTF">2010-01-10T19:54:26Z</dcterms:modified>
  <cp:revision>10</cp:revision>
  <dc:subject/>
  <dc:title>CHAPTER 6:   Beast From Air</dc:title>
</cp:coreProperties>
</file>